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1D4-6BC0-47C2-B676-C8B1AD28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AE2-ADE1-4A3B-9AB3-FAE3FDE0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350-7F49-436B-9773-26569A6F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69A-B082-4ED8-B8DA-F651E12B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FEF8-2D25-4733-8188-895C1A0C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3DFB-DCFE-406C-9B12-F5293FFD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59AE-EDBD-47BB-B013-17BB3049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C115-0728-49CE-83E0-B53A4509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028D-213E-4F44-AD9A-C64847AE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5E4F-3C57-4962-A284-5A14F42E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172F-408F-4345-BD6B-8EDD98E9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19F-2A55-429E-80DB-BA2003D3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3A60-BDBB-4B07-B6B6-22F8E23D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97BF-E7EA-46C9-AB9B-FACDB138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45BC-0EB2-494D-B6D8-52549FDD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28D4-60D0-4C91-8D2D-5234694F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4BE7-3B10-4852-A23E-4983B04D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43A-AFA2-4B24-A574-3E8608D7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12B4-D90B-4F81-849D-966E2647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E2B-88F6-419E-969C-681DDE4D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15C-15AE-455B-935C-7C3EDD96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B50-FADD-401F-8737-1EF33955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3D8-F857-48DA-A501-1AC26EA2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16C-EC40-4A78-B3BA-9139EA8F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2624-6505-4720-97E0-491B02223F9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2E8A-1B34-4382-8CF6-AAB811CAC4A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onday, August 16, 2010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ind, communicate and evaluate patter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ll Work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 What is a tessellation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de H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ssell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uctive Reasoning (NB Page 3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ssignment:  Tessellation &amp;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ignment, Lesson 1.1, problems 1-31(NB page 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uesday, August 17, 2010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Understand and use the basic undefined and defined terms of geomet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Segment postul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LL WOR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 List the three steps for inductive reaso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e HW (L 1.1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IMS-Number Sen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ints, Lines, Ray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g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IZ on Mond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ignment: Lesson 1.2, problems 1-27,  Aims Page 5, Tessell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ursday, August 19, 2010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Understand and use the basic undefined and defined terms of geomet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gment postula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ll Work:  Write the next number in the sequenc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, 5, 25, 125, ___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1, +1, -2, +2, -3, ___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e HW L1.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IMS-Finite/Infini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ignment: 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.1 Standardized Test Practice, Page 803, problems 1-13, page 60, problems 1-9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XA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Patterns Monday :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08-19T17:46:47Z</dcterms:modified>
  <cp:revision>20</cp:revision>
  <dc:subject/>
  <dc:title>Slide 1</dc:title>
</cp:coreProperties>
</file>